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9132-FD06-430B-AA2E-B94A3444D08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0D42-369B-4B62-A831-5916F2A682B8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B17F-57EF-4174-BCEF-BFBFDE1A93BE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 several definitions – students to justify their choice in selecting a piece of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31CC-3D0D-4FED-9799-103C1167E495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305-1DF2-49A0-B302-A1B77C3BC109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553D-DE1E-47FD-A267-69A474C2E090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kids input, teachers to choose best 1 from each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L to comp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ner to be annou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tnamese art – cultural / ident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erature – Writing should be accessible (con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3EC5-FA7F-4BAA-92CA-F694DC948837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57B-8A54-4663-9BB9-192207FA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8AF-ECC1-464C-BA67-AC23739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CC5-C1C5-4DD5-8D9C-9951F05C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BC3-47EC-43E8-8A79-C186EB37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F179-190B-42F3-919F-74FC8B0B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B3F0-0172-436C-98B2-DE664CCC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4E90-5AF6-4B8D-8872-6988C6B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BE30-0A36-4D5F-B515-9DBAF58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5531-E89E-4913-885A-FCF116AB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EDE9-58A8-4FA1-B68A-DC02F89E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E654-BAA0-47CA-A4B0-1C8457D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13C-D391-45C3-AB1B-FAFD66A6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420A-17E7-4921-96D1-46EF615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2B63-AAE6-4CF0-AB2A-4AD01A6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7495-785C-4BB0-87A2-B3ADDC7C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6B85-7E9F-4D00-8ABC-320188A7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EE10-D160-448E-9E4E-4DDB75DB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7029-A140-4166-9636-82022916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C491-E79C-4FC0-9BFA-88E4A82E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4843-88A5-4E8B-A559-75000AF1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A2EE-FE31-42F0-8679-3DB57DAB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261D-6745-41B7-8293-D4787ACB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623-0AEE-4794-98B3-5C6E9A8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9E0A-83C4-459D-AB98-74D39DE7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40E0-9F35-4162-8CB9-0325667D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7033-3099-4C6B-B994-5D23F5E4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94F6-4FFA-4402-AC9F-EE9726F9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7115-3274-4BBD-B25D-CCA504C7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0530-5FE2-47DD-A6E7-458D378E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7927-6018-4CCD-9FA6-CB9395BC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B402-3B6D-48C8-B1F5-6A1FCC37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CCD1-1B39-4E89-861F-6EDE4DA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AB90-910F-4087-876B-82EA409E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0AA-B3A2-4C2B-88E3-94E88FF3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82E7-3A4F-4452-9EFB-7434D5BF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BA57-DCE7-4AC2-AFAF-21110F9C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031D-BE5D-4D29-8B4C-9F621DC1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01F4-92E2-4982-B648-9811FEB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CBD95-41EC-44AD-B70D-079ACF2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F381-61C7-48F5-8447-D042001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F2BAB-07A9-4374-A74F-767AB364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0435-140C-40DB-8B70-CF0F1B14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02C8-BE80-4F37-9CA2-9D45ED59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23307-F820-48F4-899D-5367BCC3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A7B-9E9B-4730-8773-D3997594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A34E-A7F7-4F06-9AFF-1497B7A3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59BC-1245-4D17-B200-AA49C2D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DE69-4F62-41BF-B271-3E793D81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6D6E-8EEE-49FD-96A4-26424E2E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40D7-018D-4F49-81D9-8763657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62DA-BB45-4345-B777-9F035DDF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3CEB4-3B44-4853-8CE0-98398E1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037EA-667E-4995-8B4C-EDA945A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3954-EF95-4E87-9C43-C02F7250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CAEE-E2A8-43E0-9F73-A8157327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D40-086E-40B5-86DF-BB794E7B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D5D67-0725-4368-BAB3-3B3D52C6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D6B8E-CE0E-4616-913B-657B6EA3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4403-B881-4935-886B-0D7000A2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B7410-B7CB-40EA-A53E-868B03D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1F33-F581-4BBE-BE44-04B8DE09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F947-20B7-4CC0-8BE0-DEFFA9CE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F7E7C-5A94-491D-BA9E-975B81C4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24677-C3CA-4FCF-AE0B-77AF957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70D2D-5291-49D6-B229-E998235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0CC4-3F5E-4D55-99FA-6B8D175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2CD-28DD-4BF2-ADBA-D76A5F7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A2A13-AD2B-4189-A331-BCBE18CF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1C272-4C86-4C99-92C3-8E2E92D2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3DE3F-D0E4-4C44-AEDD-8A504119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E2D4B-9F8D-46BD-B35E-E7BB0F71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1AAE-3FCA-40F3-9CC2-A52901EE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9A4FB-F581-46BE-BB8C-B89E990F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32305-8A4C-4A27-A0F0-3EC7E41E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987CC-708F-466A-8B86-19C2869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EEB6-102E-466F-988F-F4B93BDD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01C8C-3F64-4BCE-B8B7-BE79803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2E9-F6A0-4FB4-89A4-440D4542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CC32-C14F-430B-828C-F12AA2A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11E8F-27B7-4705-82B1-6871C849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F302-8662-4C35-A1BB-2D411AE9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6E2D-7E84-4CF7-8C5C-8D537B75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F2FE7-F820-4F7B-8D20-CB00BFAD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AB7E5-B9CA-4F8F-A273-1ED29DC8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7D9F4-2681-49C9-832B-9C663CA2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EDF15-2BE6-4B0D-8A97-06385EE4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E21B-C69B-44DA-A69A-AB28BA1F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26178-578F-4CEB-8D26-E3355C79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CAB-8AA7-4D17-9D85-F0DC606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47BEB-C2E5-4F63-9E2D-105F878A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CDD75-CE51-43DF-8D83-5B624BE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891F-D212-4BA6-8544-837F06C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4D7AB-C214-4E1D-AB64-754BFDF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DC068-3428-49CD-85A1-07089D4B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ECECE-FF1C-492D-BF8E-60217F52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7C4C-7A0E-4190-AA11-FE0BAA33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5FEA-1C7C-46B2-92E9-F593945E3D6F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AD7B-A57A-4579-BB3E-C19876A78785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08AC-2140-4503-8DD7-5244FF59841B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FFB4-ADF8-48EE-8BFE-45EFC0A5E1F4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1DA7-DC68-4757-AA7E-0422C0A52115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353C-6757-4CF8-8D1A-04DBD3699270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C8CD-BB21-4A31-997D-2A35C80B24F8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d0ccb9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DE0-1A1E-486F-874B-3D95D4DEAC6E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revived.com/blogs/art-revived-blog/1449212-vincent-van-gogh-s-7-most-famous-paintings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ytimes.com/2008/07/13/nyregion/nyregionspecial2/13artsct.html?_r=1" TargetMode="External"/><Relationship Id="rId2" Type="http://schemas.openxmlformats.org/officeDocument/2006/relationships/hyperlink" Target="http://www.telegraph.co.uk/culture/culturecritics/richarddorment/4568827/Van-Gogh-and-the-Colours-of-the-Night-review.html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1341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ART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2012 E-Learning Module (General Pape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Meridian Junior Colle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1619280" y="2492280"/>
            <a:ext cx="590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A Brief Introduction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ESTHETIC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9920" indent="-2599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is later works were heavily influenced by the Impressionist movement and his experimentation with the form pushed the boundaries of Impressionist ar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599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59920" indent="-2599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is works subsequently pioneered the Expressionist movemen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599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59920" indent="-2599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is works also had a large influence on the Symbolist movemen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599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59920" indent="-2599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ther links: http://en.wikipedia.org/wiki/Vincent_van_Gog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59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329080" y="349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ple template for re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6"/>
          <p:cNvSpPr/>
          <p:nvPr/>
        </p:nvSpPr>
        <p:spPr>
          <a:xfrm>
            <a:off x="2286000" y="6488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uernica, by Pablo Picas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7" name="Content Placeholder 2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126360" cy="6453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 Pain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Guern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371600" y="2437920"/>
            <a:ext cx="640080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102387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102387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437920"/>
            <a:ext cx="64008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985770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985770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ompos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985770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985770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IC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what way does this painting reflect the political conditions (in relation to war)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nks to interesting article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ontent Placeholder 3" descr=""/>
          <p:cNvPicPr/>
          <p:nvPr/>
        </p:nvPicPr>
        <p:blipFill>
          <a:blip r:embed="rId1"/>
          <a:stretch/>
        </p:blipFill>
        <p:spPr>
          <a:xfrm>
            <a:off x="140328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2286000" y="6488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the Love of God, Damien Hirs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 Sculpt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For The Love of Go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275760" indent="-188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ompos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DULE OBJECTIVE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8280"/>
            <a:ext cx="6400800" cy="31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92350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the end of this module, you wil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355680" indent="-24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lore some of the more important works of art in the worl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355680" indent="-24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arn more about their significance in terms of their background, as well as the inherent value of represented by each art pie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ETARY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much does this artwork cost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y does this artwork cost so much? Why would anyone pay such amounts for this artwork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3778200" y="836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rphones required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614520" y="5589720"/>
            <a:ext cx="647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those who are interested, the entire album is available here on YouTube. More details are found on the uploader comment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youtube.com/watch?v=b1K2GRsjhUQ&amp;amp;rel=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611280" y="3222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If the video doesn’t play, click here to launch video in external brows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9" name="OvQ3RPuR8jY?version=3&amp;hl=en_US&amp;rel=0" descr=""/>
          <p:cNvPicPr/>
          <p:nvPr/>
        </p:nvPicPr>
        <p:blipFill>
          <a:blip r:embed="rId1"/>
          <a:stretch/>
        </p:blipFill>
        <p:spPr>
          <a:xfrm>
            <a:off x="682560" y="846000"/>
            <a:ext cx="2959200" cy="2217960"/>
          </a:xfrm>
          <a:prstGeom prst="rect">
            <a:avLst/>
          </a:prstGeom>
          <a:ln w="25560">
            <a:solidFill>
              <a:srgbClr val="9e8e5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 Musi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Dad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musician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musician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musician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868744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88000" indent="868744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LTUR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does this artwork represent the country it comes from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were some of its influence ON contemporary artists/work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3"/>
          <p:cNvSpPr/>
          <p:nvPr/>
        </p:nvSpPr>
        <p:spPr>
          <a:xfrm>
            <a:off x="4500720" y="5157720"/>
            <a:ext cx="4498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Click here for FULL transcript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(Romeo and Juliet, Act 2 Scene 2: The Balcony Scene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There are a number of productions and adaptations done in theatre and cinema. Click here for an example of one such adaptation (launches new browser window – from 4:30 to 7:30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112680" y="42840"/>
            <a:ext cx="4314960" cy="66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Times New Roman"/>
              </a:rPr>
              <a:t>SCENE II. Capulet's orchard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0ccb9"/>
                </a:solidFill>
                <a:latin typeface="Garamond"/>
              </a:rPr>
              <a:t>Enter ROME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Times New Roman"/>
              </a:rPr>
              <a:t>ROMEO </a:t>
            </a: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He jests at scars that never felt a wound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0ccb9"/>
                </a:solidFill>
                <a:latin typeface="Garamond"/>
              </a:rPr>
              <a:t>JULIET appears above at a window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But, soft! what light through yonder window breaks?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It is the east, and Juliet is the sun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rise, fair sun, and kill the envious moon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Who is already sick and pale with grief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hat thou her maid art far more fair than she: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Be not her maid, since she is envious;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Her vestal livery is but sick and green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nd none but fools do wear it; cast it off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It is my lady, O, it is my love!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, that she knew she were!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She speaks yet she says nothing: what of that?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Her eye discourses; I will answer it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I am too bold, 'tis not to me she speaks: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wo of the fairest stars in all the heaven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Having some business, do entreat her eyes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o twinkle in their spheres till they return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What if her eyes were there, they in her head?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he brightness of her cheek would shame those stars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s daylight doth a lamp; her eyes in heaven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Would through the airy region stream so bright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hat birds would sing and think it were not night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See, how she leans her cheek upon her hand!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, that I were a glove upon that hand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hat I might touch that cheek!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427640" y="804960"/>
            <a:ext cx="45720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Garamond"/>
              </a:rPr>
              <a:t>JULIET </a:t>
            </a: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y me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Garamond"/>
              </a:rPr>
              <a:t>ROMEO </a:t>
            </a: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She speaks: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, speak again, bright angel! for thou art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s glorious to this night, being o'er my head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s is a winged messenger of heaven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Unto the white-upturned wondering eyes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f mortals that fall back to gaze on him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When he bestrides the lazy-pacing clouds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nd sails upon the bosom of the air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Garamond"/>
              </a:rPr>
              <a:t>JULIET </a:t>
            </a: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 Romeo, Romeo! wherefore art thou Romeo?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Deny thy father and refuse thy name;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r, if thou wilt not, be but sworn my love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nd I'll no longer be a Capulet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work: Literat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ork: Romeo and Juli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riter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write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write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868744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reading/watching 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88000" indent="868744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FORE WE BEGI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71600" y="2437920"/>
            <a:ext cx="64008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following slides will give you a broad overview of the variou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of ar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 will need to research, and fill in the blanks on the following pages (The Starry Night by Vincent van Gogh has been done for you as a reference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member to cite your sources where appropriat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e honest with your opinions! Art is subjective; but do be respectful of your friends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ITERARY VALU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influences on contemporary artists/work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isting Controversies / Current Debates (If Any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3778200" y="836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rphones required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611280" y="3222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If the video doesn’t play, click here to launch video in external brows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1" name="IbTGq8QQkjs?version=3&amp;hl=en_US&amp;rel=0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879640" cy="2160720"/>
          </a:xfrm>
          <a:prstGeom prst="rect">
            <a:avLst/>
          </a:prstGeom>
          <a:ln w="25560">
            <a:solidFill>
              <a:srgbClr val="9e8e5c"/>
            </a:solidFill>
            <a:miter/>
          </a:ln>
        </p:spPr>
      </p:pic>
      <p:sp>
        <p:nvSpPr>
          <p:cNvPr id="422" name="Rectangle 1"/>
          <p:cNvSpPr/>
          <p:nvPr/>
        </p:nvSpPr>
        <p:spPr>
          <a:xfrm>
            <a:off x="620640" y="5673600"/>
            <a:ext cx="60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those who are interested, there are other similar dances you can check ou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youtube.com/watch?v=_vgGPFhHV6Y&amp;amp;rel=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work: Dance – Performance ar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ork: Tari Cendrawasih (The Bird of Paradise Danc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untry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contributions to the art community by the country (name of artwork + genre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615960" indent="-210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615960" indent="-210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615960" indent="-210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371600" y="2437920"/>
            <a:ext cx="640080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972165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reading/watching 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972165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GNIFICANCE ON HERITAGE AND TRA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does this artwork represent the country it comes from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were some of its influence ON contemporary artists/work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6UFlWO5zhO8?version=3&amp;hl=en_US&amp;rel=0" descr=""/>
          <p:cNvPicPr/>
          <p:nvPr/>
        </p:nvPicPr>
        <p:blipFill>
          <a:blip r:embed="rId1"/>
          <a:stretch/>
        </p:blipFill>
        <p:spPr>
          <a:xfrm>
            <a:off x="731880" y="836640"/>
            <a:ext cx="3048120" cy="2286000"/>
          </a:xfrm>
          <a:prstGeom prst="rect">
            <a:avLst/>
          </a:prstGeom>
          <a:ln w="25560">
            <a:solidFill>
              <a:srgbClr val="9e8e5c"/>
            </a:solidFill>
            <a:miter/>
          </a:ln>
        </p:spPr>
      </p:pic>
      <p:sp>
        <p:nvSpPr>
          <p:cNvPr id="432" name="TextBox 1"/>
          <p:cNvSpPr/>
          <p:nvPr/>
        </p:nvSpPr>
        <p:spPr>
          <a:xfrm>
            <a:off x="3778200" y="836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rphones required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85800" y="4770360"/>
            <a:ext cx="784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those who are interested in Japanese film direction, you can check out the following list of films and directors here. Some famous directors and their work includ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kira Kurosawa – Seven Samurai (1954, fil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moru Oshii – Ghost in a Shell (1996, anim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atsuhiro Otomo – Memories (2004, anim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TextBox 4"/>
          <p:cNvSpPr/>
          <p:nvPr/>
        </p:nvSpPr>
        <p:spPr>
          <a:xfrm>
            <a:off x="611280" y="3222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If the video doesn’t play, click here to launch video in external brows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work: Fil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ork: Departures (2008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riter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write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write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972165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reading/watching 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972165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LIM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ompos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LOSSARY OF TER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371600" y="2205000"/>
            <a:ext cx="64008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Some definitions you might find helpful: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Art (capital “A”)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Materials shaped or selected to convey an idea of emotion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It is possible for it to serve multiple purposes of being practical and aesthetic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Usage: Many forms of Art have now integrated the use of technology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art (small “a”)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An aesthetic object meant to be looked at and appreciate for its intrinsic value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Usage: This painting is really a work of art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The Arts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Collective term encompassing many forms of art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or example, visual arts, performance arts, fine art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ULTURAL VALU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fluence on contemporary artists / work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isting Controversies / Current Debates (If Any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XTENSION ACTIV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1280" y="206028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Having researched on the famous Art pieces of other countries, we now shift our focus to Singapore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Choose 2 forms of Singaporean art to feature in your own gallery! Do ensure that your 2 choices are of different artforms (For example, paintings/drawings, music, performances or even film!)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If possible, take some pictures of installations or exhibits on display at various locations around Singapore (ie. Esplanade, Singapore Art Museum, etc.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or those hunting old Singapore films, you can try Sinema@Mt. Sophia, BUT they will be closed for good from June 2012 (details on website)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or those who want to feature dances and performances, please note that NO PHOTOGRAPHY is allowed when the performances begin. You should feature programme notes, and give a short write-up what the performance is about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SERT ART PIECE 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vide a link to a video or audio recording if you are dealing with other forms of ar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371600" y="2133360"/>
            <a:ext cx="6400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371600" y="2438280"/>
            <a:ext cx="640080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reat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TYPE OF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AESTHETIC? HISTORICAL? CULTURAL? TRADITION/HERITAGE? MONETARY? OTHERS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SERT ART PIECE 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vide a link to a video or audio recording if you are dealing with other forms of ar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371600" y="2133360"/>
            <a:ext cx="6400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20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ALLERY WALK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371600" y="2438280"/>
            <a:ext cx="640080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reat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TYPE OF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AESTHETIC? HISTORICAL? CULTURAL? TRADITION/HERITAGE? MONETARY? OTHERS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RTING THOUGH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is art influenced by the context it was created? How is art shapes and is shaped by the environment? Response to environment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then is the role of an artist in society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is art an important part of a nation’s / culture’s  identity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oes Singapore’s art feature strongly in our national identity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eyond identity, what other role does Art play in society? (Commercial, Political…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URTHER READIN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heck out these online virtual museums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virtualfreesites.com/museums.museums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louvre.fr/en/visites-en-lig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eate your own virtual museum with your Facebook!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intel.com/museumofme/r/index.ht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651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2268360" y="6515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Starry Night, by Vincent van Gog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 Pain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The Starry Nigh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 Vincent van Gog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 Netherlands, 1853 – 189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496080" indent="-169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unflowers, Wheatfield with Crows, Portrait of Dr. Gachet, The Night Café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496080" indent="-169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Van Gogh’s </a:t>
            </a:r>
            <a:r>
              <a:rPr b="0" lang="en-US" sz="1400" spc="-1" strike="noStrike" u="sng">
                <a:solidFill>
                  <a:srgbClr val="b6a272"/>
                </a:solidFill>
                <a:uFillTx/>
                <a:latin typeface="Garamond"/>
                <a:hlinkClick r:id="rId1"/>
              </a:rPr>
              <a:t>7 most famous paintings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(with description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496080" indent="-169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247680" indent="-168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5329080" y="349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ple template for re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371600" y="2133360"/>
            <a:ext cx="6400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93079800"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No hard outlines, everything seems like a melange of colours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Pretty </a:t>
            </a:r>
            <a:r>
              <a:rPr b="0" lang="en-US" sz="1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 WHY? The swirling colours. Never seen the moon or the stars being painted in this way before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08520" indent="93079800"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Van Gogh’s madness and how the painting represents the moment of clarity in his life. </a:t>
            </a:r>
            <a:r>
              <a:rPr b="0" lang="en-SG" sz="1300" spc="-1" strike="noStrike" u="sng">
                <a:solidFill>
                  <a:srgbClr val="b6a272"/>
                </a:solidFill>
                <a:uFillTx/>
                <a:latin typeface="Garamond"/>
                <a:hlinkClick r:id="rId1"/>
              </a:rPr>
              <a:t>http://www.nytimes.com/2008/07/13/nyregion/nyregionspecial2/13artsct.html?_r=1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Strange and hypnotic, even if one were to see if from Van Gogh’s context in life and in art, one would not be able to easily understand it still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300" spc="-1" strike="noStrike" u="sng">
                <a:solidFill>
                  <a:srgbClr val="b6a272"/>
                </a:solidFill>
                <a:uFillTx/>
                <a:latin typeface="Garamond"/>
                <a:hlinkClick r:id="rId2"/>
              </a:rPr>
              <a:t>http://www.telegraph.co.uk/culture/culturecritics/richarddorment/4568827/Van-Gogh-and-the-Colours-of-the-Night-review.html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5329080" y="349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ple template for re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8280"/>
            <a:ext cx="640080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8923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ost Impressionism (1885 – 1910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8923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reat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Impressionist movement in the Art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8923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uffers from mental illnesses like anxiety. He was plagued by physical ailments and diseases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8923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5329080" y="349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ple template for re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0:56:46Z</dcterms:created>
  <dc:creator>Kum Jing Shen Joey</dc:creator>
  <dc:description/>
  <dc:language>en-US</dc:language>
  <cp:lastModifiedBy>Ivan Choong</cp:lastModifiedBy>
  <dcterms:modified xsi:type="dcterms:W3CDTF">2012-04-23T05:38:18Z</dcterms:modified>
  <cp:revision>70</cp:revision>
  <dc:subject/>
  <dc:title>The arts</dc:title>
</cp:coreProperties>
</file>